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76C53-4853-460D-AC82-2264F142F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C726E-1A6D-4AFD-8F61-8DB403EF8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59312-562D-483F-A630-2040D10C6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3DFB9-477C-44AC-B8A6-9A83F73E0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4E60C-EA4D-45AB-BE80-7A96BBE96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196AF-3AFD-44DC-B486-75AD7486A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61E5D-11EE-4084-BF2C-F9BB9A846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4A832-EB55-42A0-B058-C69767573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3E08E-820A-4542-AD68-334A0519B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ADF3E-D294-4B21-9BBE-7DAABE259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8E306-1CE3-4D6A-97FA-941A7F448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91794-3B28-4076-9473-BE1436A94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9484-54AC-4727-AD51-E17B0277B6B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API VE KÖKEN BAKIMINDAN DİLLER</a:t>
            </a:r>
            <a:br>
              <a:rPr sz="3600"/>
            </a:br>
            <a:r>
              <a:rPr b="1" lang="tr-TR" sz="3600" spc="-1" strike="noStrike">
                <a:solidFill>
                  <a:srgbClr val="000000"/>
                </a:solidFill>
                <a:latin typeface="Times New Roman"/>
                <a:ea typeface="Times New Roman"/>
              </a:rPr>
              <a:t>TÜRKÇE’NİN DÜNYA DİLLERİ ARASINDAKİ YERİ</a:t>
            </a:r>
            <a:endParaRPr b="0" lang="en-US" sz="3600" spc="-1" strike="noStrike">
              <a:solidFill>
                <a:srgbClr val="000000"/>
              </a:solidFill>
              <a:latin typeface="Calibri"/>
            </a:endParaRPr>
          </a:p>
        </p:txBody>
      </p:sp>
      <p:sp>
        <p:nvSpPr>
          <p:cNvPr id="42" name=""/>
          <p:cNvSpPr txBox="1"/>
          <p:nvPr/>
        </p:nvSpPr>
        <p:spPr>
          <a:xfrm>
            <a:off x="971280" y="2349360"/>
            <a:ext cx="7497720" cy="41515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Dünyada ne kadar dil va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 bu güne kadar kaç dil konuşulduğunu belirlemek için çeşitli araştırmalar yapılmıştır. Bu araştırmalarda üzerinde ittifak edilen kesin bir sayıya ulaşılamamıştır.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nların sonuçları incelendiğinde 2700 ila 5000 arasında değişen sayıda dilin varlığından söz edilmektedir.</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68360" y="620280"/>
            <a:ext cx="8229600" cy="550548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a-Romen Dilleri</a:t>
            </a:r>
            <a:r>
              <a:rPr b="0" lang="tr-TR" sz="2800" spc="-1" strike="noStrike">
                <a:solidFill>
                  <a:srgbClr val="000000"/>
                </a:solidFill>
                <a:latin typeface="Times New Roman"/>
                <a:ea typeface="Times New Roman"/>
              </a:rPr>
              <a:t>: Bu kolun ana dili Latincedir. Fransızca, İspanyolca, Portekizce, İtalyanca ve Rumence  bu dil grubundadı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b-Germen Dilleri: </a:t>
            </a:r>
            <a:r>
              <a:rPr b="0" lang="tr-TR" sz="2800" spc="-1" strike="noStrike">
                <a:solidFill>
                  <a:srgbClr val="000000"/>
                </a:solidFill>
                <a:latin typeface="Times New Roman"/>
                <a:ea typeface="Times New Roman"/>
              </a:rPr>
              <a:t>Almanca,</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elemenkçe, İngilizce ve İskandinav   bu gruba gir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c-Slav Dilleri: </a:t>
            </a:r>
            <a:r>
              <a:rPr b="0" lang="tr-TR" sz="2800" spc="-1" strike="noStrike">
                <a:solidFill>
                  <a:srgbClr val="000000"/>
                </a:solidFill>
                <a:latin typeface="Times New Roman"/>
                <a:ea typeface="Times New Roman"/>
              </a:rPr>
              <a:t>Rusça, Bulgarca, Sırpça, Çekçe, Slovakça, Hırvatça, Lehçe ve Boşnakça gibi   diller bu gruba gir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ç-Diğer Diller: </a:t>
            </a:r>
            <a:r>
              <a:rPr b="0" lang="tr-TR" sz="2800" spc="-1" strike="noStrike">
                <a:solidFill>
                  <a:srgbClr val="000000"/>
                </a:solidFill>
                <a:latin typeface="Times New Roman"/>
                <a:ea typeface="Times New Roman"/>
              </a:rPr>
              <a:t>Yunanca, Arnavutça, Keltçe, Litvanca gibi diller de bu grupta değerlendirilebi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AMİ DİLLERİ AİLESİ</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Güney Batı Asya’dan Kuzey Doğu Afrika’ya kadar uzanan coğrafyada konuşulan dillerdir. Hami Sami dilleri de  deni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rapça, İbranice, Akadca, Habeşce, Süryanice gibi diller bu grubun başlıca dil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ANTU DİLLERİ AİLESİ</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frika’nın orta ve güney kesiminde konuşulan dillerdir. Swahili dili, Kongoca, Gurca, Pölce grubun başlıca dillerindendir.</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u diller içinde en yaygın olanı Kenya, Uganda, Tanzanya ve Kongo’da konuşulan Swahili dilidi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İN TİBET DİLLERİ AİLESİ</a:t>
            </a:r>
            <a:endParaRPr b="0" lang="en-US" sz="2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Güneydoğu Asya’da konuşulan dillerdir. Çince, Tibetçe, Siyamca, Birmanca gibi diller bu grupta yer al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5 milyar konuşuruyla Çince dünyanın en çok konuşulan dili durumunda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AFKAS DİLLERİ AİLESİ</a:t>
            </a:r>
            <a:endParaRPr b="0" lang="en-US" sz="2800" spc="-1" strike="noStrike">
              <a:solidFill>
                <a:srgbClr val="000000"/>
              </a:solidFill>
              <a:latin typeface="Calibri"/>
            </a:endParaRPr>
          </a:p>
        </p:txBody>
      </p:sp>
      <p:sp>
        <p:nvSpPr>
          <p:cNvPr id="64" name=""/>
          <p:cNvSpPr txBox="1"/>
          <p:nvPr/>
        </p:nvSpPr>
        <p:spPr>
          <a:xfrm>
            <a:off x="457200" y="1268280"/>
            <a:ext cx="8229600" cy="4857840"/>
          </a:xfrm>
          <a:prstGeom prst="rect">
            <a:avLst/>
          </a:prstGeom>
          <a:noFill/>
          <a:ln w="0">
            <a:noFill/>
          </a:ln>
        </p:spPr>
        <p:txBody>
          <a:bodyPr anchor="t">
            <a:normAutofit/>
          </a:bodyPr>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afkasya, etnik açıdan dünyanın en karmaşık bölgesidir. </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üçük bir coğrafyada 50-60 etnik grup yaşamakta ve kendi dillerini konuşmaktadır. </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araçay-Balkarca, Azerice, Osetçe, Talişçe, Ermenice, Kalmukça, Gürcüce, Çerkezce, İnguşça, Abazca, Lezgice bu bölgede konuşulan dillerdendi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533520" y="475920"/>
            <a:ext cx="8286480" cy="5977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RAL – ALTAY DİLLERİ AİLESİ </a:t>
            </a:r>
            <a:r>
              <a:rPr b="0" lang="tr-TR" sz="2800" spc="-1" strike="noStrike">
                <a:solidFill>
                  <a:srgbClr val="7030a0"/>
                </a:solidFill>
                <a:latin typeface="Times New Roman"/>
                <a:ea typeface="Times New Roman"/>
              </a:rPr>
              <a:t>(*)</a:t>
            </a:r>
            <a:endParaRPr b="0" lang="en-US" sz="28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lang="tr-TR" sz="3000" spc="-1" strike="noStrike">
                <a:solidFill>
                  <a:srgbClr val="000000"/>
                </a:solidFill>
                <a:latin typeface="Times New Roman"/>
                <a:ea typeface="Times New Roman"/>
              </a:rPr>
              <a:t>Ural ve Altay dillerinin köken birliği görüşü, 18.yüzyıl başlarından itibaren tartışma konusu olmuş, bilimsel çalışmaların ilerlemesiyle bu iki grubun birbiriyle akraba olmadığı ortaya çıkmıştır.</a:t>
            </a:r>
            <a:endParaRPr b="0" lang="en-US" sz="30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i="1" lang="tr-TR" sz="3000" spc="-1" strike="noStrike">
                <a:solidFill>
                  <a:srgbClr val="000000"/>
                </a:solidFill>
                <a:latin typeface="Times New Roman"/>
                <a:ea typeface="Times New Roman"/>
              </a:rPr>
              <a:t>Fince, Macarca, Samoyetçe gibi dilleri içine alan Ural dilleriyle Türkçenin herhangi bir şekilde akrabalığı söz konusu değildir. </a:t>
            </a:r>
            <a:endParaRPr b="0" lang="en-US" sz="30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7030a0"/>
                </a:solidFill>
                <a:latin typeface="Times New Roman"/>
                <a:ea typeface="Times New Roman"/>
              </a:rPr>
              <a:t>*Bu nedenle Ural-Altay dillerini tek bir dil ailesi olarak değil, Ural  ve Altay dilleri ailesi olarak ayrı ayrı ele almak daha doğru olacaktır.</a:t>
            </a: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RAL DİL AİLESİ</a:t>
            </a:r>
            <a:endParaRPr b="0" lang="en-US" sz="28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endi içinde Fin Ugor Kolu ve Samoyet Kolu olarak iki kola ayrılır:</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6c0a"/>
                </a:solidFill>
                <a:latin typeface="Times New Roman"/>
                <a:ea typeface="Times New Roman"/>
              </a:rPr>
              <a:t>Fin Ugor: </a:t>
            </a:r>
            <a:r>
              <a:rPr b="0" lang="tr-TR" sz="2800" spc="-1" strike="noStrike">
                <a:solidFill>
                  <a:srgbClr val="000000"/>
                </a:solidFill>
                <a:latin typeface="Times New Roman"/>
                <a:ea typeface="Times New Roman"/>
              </a:rPr>
              <a:t>Fince, Macarca, Lapca, Ugorca</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6c0a"/>
                </a:solidFill>
                <a:latin typeface="Times New Roman"/>
                <a:ea typeface="Times New Roman"/>
              </a:rPr>
              <a:t>Samoyet: </a:t>
            </a:r>
            <a:r>
              <a:rPr b="0" lang="tr-TR" sz="2800" spc="-1" strike="noStrike">
                <a:solidFill>
                  <a:srgbClr val="000000"/>
                </a:solidFill>
                <a:latin typeface="Times New Roman"/>
                <a:ea typeface="Times New Roman"/>
              </a:rPr>
              <a:t>Samoyet dilleri bu grupta yer al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LTAY DİL AİLESİ</a:t>
            </a:r>
            <a:endParaRPr b="0" lang="en-US" sz="2800" spc="-1" strike="noStrike">
              <a:solidFill>
                <a:srgbClr val="000000"/>
              </a:solidFill>
              <a:latin typeface="Calibri"/>
            </a:endParaRPr>
          </a:p>
        </p:txBody>
      </p:sp>
      <p:sp>
        <p:nvSpPr>
          <p:cNvPr id="69" name=""/>
          <p:cNvSpPr txBox="1"/>
          <p:nvPr/>
        </p:nvSpPr>
        <p:spPr>
          <a:xfrm>
            <a:off x="468000" y="836280"/>
            <a:ext cx="8258040" cy="5761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nceleri Ural ve Altay dillerinin kökeninin bir olduğu savunulmuş ancak daha sonra yapılan araştırmalar bu iki grubun akraba olmadığını ortaya çıkarmıştı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Orta Asya’daki Altay dağları ve çevresi bu dilleri konuşan toplulukların anavatanı kabul edi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rupta Türkçe, Moğolca, Mançu Tunguzca, Korece, Japonca bulunur.</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Türkçe’nin Dünya Dilleri Arasındaki Yeri</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Türkçe, Altay dilleri ailesine mensup, Moğolca ile yakın akrabalık gösteren sondan eklemeli bir dildir.</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LTAY DİLLERİNİN ORTAK ÖZELLİKLERİ</a:t>
            </a:r>
            <a:endParaRPr b="0" lang="en-US" sz="2800" spc="-1" strike="noStrike">
              <a:solidFill>
                <a:srgbClr val="000000"/>
              </a:solidFill>
              <a:latin typeface="Calibri"/>
            </a:endParaRPr>
          </a:p>
        </p:txBody>
      </p:sp>
      <p:sp>
        <p:nvSpPr>
          <p:cNvPr id="71" name=""/>
          <p:cNvSpPr txBox="1"/>
          <p:nvPr/>
        </p:nvSpPr>
        <p:spPr>
          <a:xfrm>
            <a:off x="250920" y="1052280"/>
            <a:ext cx="8642160" cy="5616360"/>
          </a:xfrm>
          <a:prstGeom prst="rect">
            <a:avLst/>
          </a:prstGeom>
          <a:noFill/>
          <a:ln w="0">
            <a:noFill/>
          </a:ln>
        </p:spPr>
        <p:txBody>
          <a:bodyPr anchor="t">
            <a:norm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Altay dillerinde görülen ortak noktaları şöyle sıralayabiliri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Eklemeli dillerdir. Kelime yapım ve çekiminde son ek kullanılırken köklerde değişiklik olma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Özne yüklemden önce gelir ve genellikle başta bulunur.</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Erillik-dişilik ayrımı yoktur. </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Ünlü uyumu aranır.</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Kelime başlarında l,r,n ünsüzleri bulunma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Sıfat tamlamalarında sıfatlar isimlerden önce gelir. beş kardeş..</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Artikel (harf-i tarif) bulunmaz. El-cevap, the book gibi…</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İsim çekiminde iyelik ekleri kullanılır. </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Sayı sıfatlarından sonra çokluk eki kullanılmaz. Örneğin, On elma…</a:t>
            </a:r>
            <a:endParaRPr b="0" lang="en-US" sz="25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VUSTRONEZYA DİLLERİ AİLESİ</a:t>
            </a:r>
            <a:endParaRPr b="0" lang="en-US" sz="28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onez Malay dilleri, Cava dili, Tagolog veya Pilipino, Malagasy dilleri bu dil ailesinin en önemli dilleri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71280" y="691920"/>
            <a:ext cx="7497720" cy="580860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illerin bir kısmı küçük kabile dilleri, bir kısmı da büyük milletlerin dilleridir. Bunlardan 118’i devlet dili olma niteliğine sahiptir. Türkçemiz de bunlardan biridir.</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gün, insanlar arasında anlaşma aracı olarak kullanıldığını gördüğümüz diller birbirlerinden ayrı ve bağımsız olmalarına rağmen aralarında bazı yakınlıklar vardır. Bu yakınlıkların bir kısmı herkesin fark edebileceği bir belirginliktedir. Bir kısmı ise ancak dilbilimcilerce görülebilmektedir. </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arasındaki yakınlıkları iki noktada toplayabiliriz:</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8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Times New Roman"/>
                <a:ea typeface="Times New Roman"/>
              </a:rPr>
              <a:t>A. Yapı bakımından,</a:t>
            </a:r>
            <a:endParaRPr b="0" lang="en-US" sz="2800" spc="-1" strike="noStrike">
              <a:solidFill>
                <a:srgbClr val="000000"/>
              </a:solidFill>
              <a:latin typeface="Calibri"/>
            </a:endParaRPr>
          </a:p>
          <a:p>
            <a:pPr marL="343080" indent="-343080" algn="just">
              <a:lnSpc>
                <a:spcPct val="8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Times New Roman"/>
                <a:ea typeface="Times New Roman"/>
              </a:rPr>
              <a:t>B. Köken (menşe) bakımınd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ĞERLERİ</a:t>
            </a:r>
            <a:endParaRPr b="0" lang="en-US" sz="28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merikadaki yerlilerin dillerini, Eskimo Astek dillerini bu grupta sayabiliriz.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43C9-56AC-42D5-9933-13D19AD3E91E}"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71280" y="1125360"/>
            <a:ext cx="7497720" cy="53755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API BAKIMINDAN DİLLER</a:t>
            </a:r>
            <a:endParaRPr b="0" lang="en-US" sz="28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 kullanılan diller, aralarındaki ses, biçim, yapı ve cümle kuruluşları bakımından benzerlikler dikkate alınarak sınıflandırmaya tabi tutulmuştur. </a:t>
            </a:r>
            <a:r>
              <a:rPr b="0" lang="tr-TR" sz="3000" spc="-1" strike="noStrike">
                <a:solidFill>
                  <a:srgbClr val="000000"/>
                </a:solidFill>
                <a:latin typeface="Times New Roman"/>
                <a:ea typeface="Times New Roman"/>
              </a:rPr>
              <a:t>Yapı bakımından diller şu şekilde sınıflandırılmıştır:</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1. Tek heceli diller (Yalınlayan diller)</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2. Eklemeli diller   (Bağlantılı diller)</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3. Çekimli diller     (Bükümlü dille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680"/>
            <a:ext cx="746748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EK HECELİ DİLLER</a:t>
            </a:r>
            <a:endParaRPr b="0" lang="en-US" sz="2800" spc="-1" strike="noStrike">
              <a:solidFill>
                <a:srgbClr val="000000"/>
              </a:solidFill>
              <a:latin typeface="Calibri"/>
            </a:endParaRPr>
          </a:p>
        </p:txBody>
      </p:sp>
      <p:sp>
        <p:nvSpPr>
          <p:cNvPr id="46" name=""/>
          <p:cNvSpPr txBox="1"/>
          <p:nvPr/>
        </p:nvSpPr>
        <p:spPr>
          <a:xfrm>
            <a:off x="456840" y="1356840"/>
            <a:ext cx="7467480" cy="5116680"/>
          </a:xfrm>
          <a:prstGeom prst="rect">
            <a:avLst/>
          </a:prstGeom>
          <a:noFill/>
          <a:ln w="0">
            <a:noFill/>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dillerde her kelime tek hecedir. Cümleyi oluşturan kelimeler ek almazlar ve şekil değiştirmezler. Çince ve Tibetçe bu gruptaki dillerdendir. Cümlenin anlamı genellikle kelime sırasından ve vurgu  tonlamasından anlaşılır. Örnek:</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şiye : </a:t>
            </a:r>
            <a:r>
              <a:rPr b="0" lang="tr-TR" sz="2800" spc="-1" strike="noStrike">
                <a:solidFill>
                  <a:srgbClr val="000000"/>
                </a:solidFill>
                <a:latin typeface="Times New Roman"/>
              </a:rPr>
              <a:t>yazıyoru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bu şiye : </a:t>
            </a:r>
            <a:r>
              <a:rPr b="0" lang="tr-TR" sz="2800" spc="-1" strike="noStrike">
                <a:solidFill>
                  <a:srgbClr val="000000"/>
                </a:solidFill>
                <a:latin typeface="Times New Roman"/>
              </a:rPr>
              <a:t>yazmıyorum, yazma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şiye lı : </a:t>
            </a:r>
            <a:r>
              <a:rPr b="0" lang="tr-TR" sz="2800" spc="-1" strike="noStrike">
                <a:solidFill>
                  <a:srgbClr val="000000"/>
                </a:solidFill>
                <a:latin typeface="Times New Roman"/>
              </a:rPr>
              <a:t>yazdı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örülüyor ki, Türkçedeki eklerin yerini , bu dillerde kelimeler almışt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11040" y="120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KLEMELİ DİLLER</a:t>
            </a:r>
            <a:endParaRPr b="0" lang="en-US" sz="28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tür dillerde tek veya çok heceli kelime kökleri ile ekler vardır. Yeni kelimeler ya da kelimelerin çekimli halleri yapılırken köklere ekler getirilir. Bu ekleme sırasında kökler değişmez.</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i="1" lang="tr-TR" sz="2800" spc="-1" strike="noStrike">
                <a:solidFill>
                  <a:srgbClr val="000000"/>
                </a:solidFill>
                <a:latin typeface="Times New Roman"/>
                <a:ea typeface="Times New Roman"/>
              </a:rPr>
              <a:t>Türkçe, Macarca, Moğolca, Japonca, Korece </a:t>
            </a:r>
            <a:r>
              <a:rPr b="0" lang="tr-TR" sz="2800" spc="-1" strike="noStrike">
                <a:solidFill>
                  <a:srgbClr val="000000"/>
                </a:solidFill>
                <a:latin typeface="Times New Roman"/>
                <a:ea typeface="Times New Roman"/>
              </a:rPr>
              <a:t>gibi diller eklemeli dillerdendir.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Örnek: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oku-l-um-u   sev-(i)yor-um, göz-lük-çü-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746748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EKİMLİ</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LER</a:t>
            </a:r>
            <a:endParaRPr b="0" lang="en-US" sz="2800" spc="-1" strike="noStrike">
              <a:solidFill>
                <a:srgbClr val="000000"/>
              </a:solidFill>
              <a:latin typeface="Calibri"/>
            </a:endParaRPr>
          </a:p>
        </p:txBody>
      </p:sp>
      <p:sp>
        <p:nvSpPr>
          <p:cNvPr id="50" name=""/>
          <p:cNvSpPr txBox="1"/>
          <p:nvPr/>
        </p:nvSpPr>
        <p:spPr>
          <a:xfrm>
            <a:off x="456840" y="1214280"/>
            <a:ext cx="7467480" cy="5259600"/>
          </a:xfrm>
          <a:prstGeom prst="rect">
            <a:avLst/>
          </a:prstGeom>
          <a:noFill/>
          <a:ln w="0">
            <a:noFill/>
          </a:ln>
        </p:spPr>
        <p:txBody>
          <a:bodyPr anchor="t">
            <a:normAutofit/>
          </a:bodyPr>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Çekimli dillerde tek veya çok heceli kökler ve bir takım ekler vardır. Yeni kelime yapımında ve çekim sırasında çok defa köklerde değişiklikler olur. Hatta bazı dillerde bu değişiklik kökü tanınmaz hale getirebilir. Hint Avrupa ve Sami dilleri bu gruba girer.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Örnek (Arapça):</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qa:le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di (geçmiş zaman)</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yequ:lü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r (geniş zaman)</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qul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 (emir)</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Ders, medrese, müderris, tedrisat…</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Örnek (İngilizce): Drink, drank, drunk (içmek)</a:t>
            </a:r>
            <a:r>
              <a:rPr b="0" i="1" lang="tr-TR" sz="2500" spc="-1" strike="noStrike">
                <a:solidFill>
                  <a:srgbClr val="000000"/>
                </a:solidFill>
                <a:latin typeface="Calibri"/>
              </a:rPr>
              <a:t>	</a:t>
            </a:r>
            <a:r>
              <a:rPr b="0" lang="tr-TR" sz="2800" spc="-1" strike="noStrike">
                <a:solidFill>
                  <a:srgbClr val="000000"/>
                </a:solidFill>
                <a:latin typeface="Times New Roman"/>
                <a:ea typeface="Times New Roman"/>
              </a:rPr>
              <a:t>go - went- gone (gitmek)… gibi.</a:t>
            </a:r>
            <a:endParaRPr b="0" lang="en-US" sz="28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do – did -don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AYNAK (MENŞE) BAKIMINDAN DİLLER</a:t>
            </a:r>
            <a:endParaRPr b="0" lang="en-US" sz="2800" spc="-1" strike="noStrike">
              <a:solidFill>
                <a:srgbClr val="000000"/>
              </a:solidFill>
              <a:latin typeface="Calibri"/>
            </a:endParaRPr>
          </a:p>
        </p:txBody>
      </p:sp>
      <p:sp>
        <p:nvSpPr>
          <p:cNvPr id="52" name=""/>
          <p:cNvSpPr txBox="1"/>
          <p:nvPr/>
        </p:nvSpPr>
        <p:spPr>
          <a:xfrm>
            <a:off x="457200" y="1600200"/>
            <a:ext cx="7972560" cy="48736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öken bakımından birbirine yakın, aynı kaynaktan gelen diller dil ailelerini oluşturur. Aynı dil ailesinden  gelen diller arasındaki akrabalık  derecesi geldikleri kola göre farklı olabilir. Örneğin İngilizce ile Farsça arasındaki akrabalık bağı uzakken;  İngilizce ile Almanca arasındaki akrabalık bağı daha yakındır. </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6840" y="713880"/>
            <a:ext cx="7467480" cy="57596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ki dil ailelerini şu şekilde sınıflandırabiliriz:</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 Hint Avrupa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Sami Dilleri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 Bantu Dilleri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4. Çin Tibet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5. Kafkas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6. Ural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7. Altay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8. Avustronezya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9. Bunların dışında kalanlar</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İNT AVRUPA DİLLERİ AİLESİ</a:t>
            </a:r>
            <a:endParaRPr b="0" lang="en-US" sz="2800" spc="-1" strike="noStrike">
              <a:solidFill>
                <a:srgbClr val="000000"/>
              </a:solidFill>
              <a:latin typeface="Calibri"/>
            </a:endParaRPr>
          </a:p>
        </p:txBody>
      </p:sp>
      <p:sp>
        <p:nvSpPr>
          <p:cNvPr id="55" name=""/>
          <p:cNvSpPr txBox="1"/>
          <p:nvPr/>
        </p:nvSpPr>
        <p:spPr>
          <a:xfrm>
            <a:off x="456840" y="1125000"/>
            <a:ext cx="8186760" cy="5472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vrupa’nın büyük bölümünde, Asya, Amerika ve bazı Afrika ülkelerinde konuşulmaktadır. Macarca ve Fince dışındaki Avrupa dilleri, Farsça ve Hindistan’daki birçok dil bu gruba girer. Dünyanın en büyük dil ailesidir.</a:t>
            </a:r>
            <a:r>
              <a:rPr b="0" lang="tr-TR" sz="2800" spc="-1" strike="noStrike">
                <a:solidFill>
                  <a:srgbClr val="000000"/>
                </a:solidFill>
                <a:latin typeface="Calibri"/>
              </a:rPr>
              <a:t> </a:t>
            </a:r>
            <a:r>
              <a:rPr b="0" lang="tr-TR" sz="2800" spc="-1" strike="noStrike">
                <a:solidFill>
                  <a:srgbClr val="000000"/>
                </a:solidFill>
                <a:latin typeface="Times New Roman"/>
                <a:ea typeface="Times New Roman"/>
              </a:rPr>
              <a:t>İki kolu vardı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1. Asya Kolu</a:t>
            </a:r>
            <a:r>
              <a:rPr b="0" lang="tr-TR" sz="2800" spc="-1" strike="noStrike">
                <a:solidFill>
                  <a:srgbClr val="000000"/>
                </a:solidFill>
                <a:latin typeface="Times New Roman"/>
                <a:ea typeface="Times New Roman"/>
              </a:rPr>
              <a:t>: Hintçe, Farsça, Urduca, Ermenice bu kola gire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Avrupa Kolu</a:t>
            </a:r>
            <a:r>
              <a:rPr b="0" lang="tr-TR" sz="2800" spc="-1" strike="noStrike">
                <a:solidFill>
                  <a:srgbClr val="000000"/>
                </a:solidFill>
                <a:latin typeface="Times New Roman"/>
                <a:ea typeface="Times New Roman"/>
              </a:rPr>
              <a:t>: Fince ve Macarca dışındaki Avrupa’da konuşulan diğer dilleri bu gruba sokabiliriz.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vrupa kolu, </a:t>
            </a:r>
            <a:r>
              <a:rPr b="0" lang="tr-TR" sz="2800" spc="-1" strike="noStrike">
                <a:solidFill>
                  <a:srgbClr val="00b0f0"/>
                </a:solidFill>
                <a:latin typeface="Times New Roman"/>
                <a:ea typeface="Times New Roman"/>
              </a:rPr>
              <a:t>Romen, Germen, Slav ve diğer </a:t>
            </a:r>
            <a:r>
              <a:rPr b="0" lang="tr-TR" sz="2800" spc="-1" strike="noStrike">
                <a:solidFill>
                  <a:srgbClr val="000000"/>
                </a:solidFill>
                <a:latin typeface="Times New Roman"/>
                <a:ea typeface="Times New Roman"/>
              </a:rPr>
              <a:t>diller olmak üzere dört bölümde ele alınab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5:24:44Z</dcterms:created>
  <dc:creator>serkanhamit</dc:creator>
  <dc:description/>
  <dc:language>en-US</dc:language>
  <cp:lastModifiedBy>BURAK</cp:lastModifiedBy>
  <dcterms:modified xsi:type="dcterms:W3CDTF">2014-09-29T15:54:33Z</dcterms:modified>
  <cp:revision>127</cp:revision>
  <dc:subject/>
  <dc:title>TEMEL KAVRAMLAR</dc:title>
</cp:coreProperties>
</file>